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303-768E-46F6-B250-23FE2202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E57-8DA9-4330-9553-F628FF20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CCD-0672-4DEB-9566-1B11537A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44E-65E4-4D61-8F5A-BB6A6547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D56-6BC3-4A3F-BA4B-3CEF2428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28B-CD34-4F97-BFA3-7A340DDD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80B-110C-415E-B1BF-81F35AC8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B3D-59C5-40A2-9FF7-143CCFBC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26E-0C80-4A22-ACA3-FA9574D2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3A6-0B47-4B72-B034-04BDA6CF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0C2-BACF-4DE8-BF5C-FECA6266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AFD-5833-4366-93DE-DF5352F1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0EA6-191C-4916-ACBC-B6554F68F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Isabelle Nisse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Period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73240" y="1523880"/>
            <a:ext cx="32925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62592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93056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L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353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8354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6764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4191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1629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6019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Digital Water D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199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Pho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9245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5715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Partner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3750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4114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Lucida Handwriting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aby </a:t>
            </a:r>
            <a:r>
              <a:rPr b="0" lang="en-US" sz="4800" spc="-1" strike="noStrike">
                <a:solidFill>
                  <a:srgbClr val="ffffff"/>
                </a:solidFill>
                <a:latin typeface="Lucida Handwriting"/>
              </a:rPr>
              <a:t>P</a:t>
            </a: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6147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4876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Holga Ca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181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3640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274760"/>
            <a:ext cx="63248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Painting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7595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0199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Partner Projects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Poor Depth/Sharp Dep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5416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9927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Cross-Proce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0181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117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4:49:10Z</dcterms:created>
  <dc:creator>Isabelle Nissen</dc:creator>
  <dc:description/>
  <dc:language>en-US</dc:language>
  <cp:lastModifiedBy>C</cp:lastModifiedBy>
  <dcterms:modified xsi:type="dcterms:W3CDTF">2009-05-22T22:05:03Z</dcterms:modified>
  <cp:revision>6</cp:revision>
  <dc:subject/>
  <dc:title>Photograms</dc:title>
</cp:coreProperties>
</file>